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31467"/>
        <c:axId val="61827515"/>
      </c:barChart>
      <c:catAx>
        <c:axId val="16831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27515"/>
        <c:crosses val="autoZero"/>
        <c:auto val="1"/>
        <c:lblAlgn val="ctr"/>
        <c:lblOffset val="100"/>
        <c:noMultiLvlLbl val="0"/>
      </c:catAx>
      <c:valAx>
        <c:axId val="61827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31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4767-6D3B-401B-990D-51D72E93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E617-BB6B-4123-A194-4E3109DD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906-E90E-4C9C-8716-A6764E8F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1553-6A47-4475-B03F-4AEA1A26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374-97A5-42E7-96A5-F2B61A5F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4A4-573C-44CD-8808-8DB09925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662-740A-4DB8-8DE2-BCA0D21D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CF4-DA6A-4334-A730-841C8AFA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42B-4139-41E2-BA13-DE794568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D7FF-FF48-481E-B574-D2C9E2A5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D91B-02DC-4476-8B75-B0A77474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0FF-3D03-4D1E-90CB-49CCD135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B5FD4-44E4-4054-9C70-4B90CD15E7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