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0411"/>
        <c:axId val="86057118"/>
      </c:barChart>
      <c:catAx>
        <c:axId val="1610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57118"/>
        <c:crosses val="autoZero"/>
        <c:auto val="1"/>
        <c:lblAlgn val="ctr"/>
        <c:lblOffset val="100"/>
        <c:noMultiLvlLbl val="0"/>
      </c:catAx>
      <c:valAx>
        <c:axId val="86057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0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0A4-5B78-49EA-8E91-17F6034D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016-00C1-40CB-9D58-0936F2E5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21F-133B-495F-808F-CA541F73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E8F-4CCD-4CA1-94E2-09D862DF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CC5-66A2-4282-9DA4-8DE587D1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DF3-FCAF-4867-B01B-FC4C3872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B53-3591-4A54-BC11-F98F8E85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1AD-26EB-4AF1-AD66-65157704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A40-99DC-474F-ACD0-029DF2B4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767-62D0-4474-97F2-09923E49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A88-648A-4778-822A-925BF4EC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6DE-9A6B-4026-BB1D-B854547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01DEA-C780-46CE-A603-D007D95433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