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62219"/>
        <c:axId val="4377584"/>
      </c:barChart>
      <c:catAx>
        <c:axId val="42662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7584"/>
        <c:crosses val="autoZero"/>
        <c:auto val="1"/>
        <c:lblAlgn val="ctr"/>
        <c:lblOffset val="100"/>
        <c:noMultiLvlLbl val="0"/>
      </c:catAx>
      <c:valAx>
        <c:axId val="4377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2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6F1-25ED-4C6E-89A7-95F9642B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28C-07E2-4A56-8B92-720E48F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F07-7D3A-441E-9B72-CCF61D48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C29-3FD4-48D7-AF1F-8134916B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601-0494-47B6-94C4-BEE7CF08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480-8DDF-4928-9D80-B48D989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B2F-F2A7-4F4A-9710-998FC30A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8C7-8218-4152-8AF4-A6FC2AE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3A4-90C5-4DFC-A96C-121A5BB8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BDB-9F2F-4957-95CF-903665F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914-4510-478A-A5D7-51CBBC9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21D-E44B-4CAE-A05D-31463C5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CDE41-D0C1-46CA-BB43-3D9A0EF97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