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74471"/>
        <c:axId val="59028951"/>
      </c:barChart>
      <c:catAx>
        <c:axId val="35374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28951"/>
        <c:crosses val="autoZero"/>
        <c:auto val="1"/>
        <c:lblAlgn val="ctr"/>
        <c:lblOffset val="100"/>
        <c:noMultiLvlLbl val="0"/>
      </c:catAx>
      <c:valAx>
        <c:axId val="59028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74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041-9A67-4828-B107-78E576AF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C4C-D3A1-4BA2-B9CA-6AF0F241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6D7-E3BB-42E5-ACD4-EE428E5D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D1E-6C57-4C4E-869C-1B252CBB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E30-E801-44D6-B171-519C5F0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ACD-2EDF-425C-9B11-B01AB835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B8A-A920-4CBB-BE06-30DAC5B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364-4200-4F9D-926F-199526CC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793-1F55-4D6D-AAB5-D366E6F1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23C-DD74-4E67-A3F3-95290C9C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F58-947C-4912-99AD-2B5C77D5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2F6-9F96-422A-9F10-F87029E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7E77B-5D8E-4C2E-8AD6-14FFDAAA0A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